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00E-A01D-4FE5-80B6-E427B235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1D3-3DF7-438A-9A41-58987126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33F-7BD8-4327-90BE-671BD702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3BB-246A-4539-92B0-C361F1DB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E4B-C01E-4CE1-B57D-A29C8AE2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A23-BE61-427C-A2C0-7944BB57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621-1A3F-4A5C-9262-02706871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E95-42D9-4BB3-90CD-AB1D9601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002-FA59-47C9-AA81-9B782011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E8B-F0E3-4E68-8D64-F5DA2BA5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E65-A6FE-43D3-86E1-1E9BCF7B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8DD-8A4A-4C77-BBB4-263DF092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70E8-AEB7-430C-93C1-7E333CD115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1989000"/>
            <a:ext cx="518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与任课老师面对面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90792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议程一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76360" y="765000"/>
            <a:ext cx="617688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平时家长应注意的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341360"/>
            <a:ext cx="6985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、午休管理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、下午放学回家很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、打电话时间长，次数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、超消费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、同学交往超出友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、成绩突然下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、注重外表，爱好打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8</a:t>
            </a: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、老是玩电脑</a:t>
            </a: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经常看电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要尽量控制孩子的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零用钱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和上学、回家的时间，时刻了解学生的动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333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议程四、给家长的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26920" y="2133720"/>
            <a:ext cx="7850160" cy="3838680"/>
            <a:chOff x="826920" y="2133720"/>
            <a:chExt cx="7850160" cy="3838680"/>
          </a:xfrm>
        </p:grpSpPr>
        <p:sp>
          <p:nvSpPr>
            <p:cNvPr id="74" name=""/>
            <p:cNvSpPr/>
            <p:nvPr/>
          </p:nvSpPr>
          <p:spPr>
            <a:xfrm>
              <a:off x="826920" y="2563560"/>
              <a:ext cx="7850160" cy="34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早    晨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7: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中午放学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11:40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（值日生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11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50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午休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12:30 — 1: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下午上课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2: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下午放学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5:30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（值日生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5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45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54200" y="2133720"/>
              <a:ext cx="547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五一”过后作息时间调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1484280"/>
            <a:ext cx="81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2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希望家长在假期、周六、周日这段时间内督促孩子多看书，少看电视，尽量不要上网打游戏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06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3 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不要把手机、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MP3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等东西给子女带来学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7162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学习方面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关心学生每一天的学习情况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督促学生晚上在家独立完成各科家庭作业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作业签字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并进行适当的复习和预习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对于学有余力的学生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安排适当的课外习题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5382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3357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华文楷体"/>
              </a:rPr>
              <a:t>　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  <a:ea typeface="华文楷体"/>
              </a:rPr>
              <a:t>工作再忙也要抽点时间来多了解孩子在校的表现和学习成绩情况。因为孩子只有一个呀，我们的一切工作难道不是为了孩子将来的美好前途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5 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每天帮孩子听写语文词语和英语单词并签字，给孩子创造良好的学习环境，多鼓励孩子，多与孩子一同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26920" y="1413000"/>
            <a:ext cx="77724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强与学校交流，积极配合学校共同监督孩子进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009900"/>
                </a:solidFill>
                <a:latin typeface="华文楷体"/>
                <a:ea typeface="华文楷体"/>
              </a:rPr>
              <a:t>多与班主任和各科任老师联系</a:t>
            </a:r>
            <a:r>
              <a:rPr b="1" lang="zh-CN" sz="3200" spc="-1" strike="noStrike">
                <a:solidFill>
                  <a:srgbClr val="0099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华文楷体"/>
                <a:ea typeface="华文楷体"/>
              </a:rPr>
              <a:t>及时了解孩子在学校的学习和生活情况</a:t>
            </a:r>
            <a:r>
              <a:rPr b="1" lang="zh-CN" sz="3200" spc="-1" strike="noStrike">
                <a:solidFill>
                  <a:srgbClr val="009900"/>
                </a:solidFill>
                <a:latin typeface="华文楷体"/>
                <a:ea typeface="华文楷体"/>
              </a:rPr>
              <a:t>.</a:t>
            </a:r>
            <a:r>
              <a:rPr b="1" lang="zh-CN" sz="3200" spc="-1" strike="noStrike">
                <a:solidFill>
                  <a:srgbClr val="009900"/>
                </a:solidFill>
                <a:latin typeface="华文楷体"/>
                <a:ea typeface="华文楷体"/>
              </a:rPr>
              <a:t>因为有很多事情就是因为家长不了解自己孩子的情况才发生的</a:t>
            </a:r>
            <a:r>
              <a:rPr b="1" lang="zh-CN" sz="3200" spc="-1" strike="noStrike">
                <a:solidFill>
                  <a:srgbClr val="009900"/>
                </a:solidFill>
                <a:latin typeface="华文楷体"/>
                <a:ea typeface="华文楷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58600" y="4476600"/>
            <a:ext cx="438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英语 卓老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: 13868783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科学 项老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: 135876332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数学 蔡老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: 135876313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语文 张老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: 137777705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28680" y="126036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下面是您的骄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29040" y="2092320"/>
            <a:ext cx="283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学习之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3141720"/>
            <a:ext cx="7530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施娱、卢丽娜、王海斌、李璇、王馨馨、夏玲玲、周丰瑞、黄菁菁、钱芸芸、叶琼、林超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33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议程五、表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895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981000"/>
            <a:ext cx="77882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班长：王馨馨                 副班长：林超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委员：钱芸芸         纪检委员：赵超凡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娱委员：叶  琼         柳  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宣传委员：卢丽娜       叶  丹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劳卫委员：周丰瑞         生活委员：夏玲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育委员（男）：陈烨    （女）：马俪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代表：语文— 施娱   钱芸芸     英语—吴恬恬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科学—马俪净     数学—— 卢丽娜  王海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260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管理之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03640" y="620640"/>
            <a:ext cx="283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艺术之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2060640"/>
            <a:ext cx="71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叶琼、施娱、马俪净 、李璇、徐碧遥、应蕾、叶丹、夏玲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03640" y="620640"/>
            <a:ext cx="283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德育之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1700280"/>
            <a:ext cx="770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施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王馨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叶琼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徐碧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周丰瑞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卢丽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夏玲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林超豪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吴恬恬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钱芸芸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赵超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刘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应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39040" y="155736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如果孩子生活在批评之中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他就学会谴责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10680" y="22766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如果孩子生活在鼓励之中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他就学会自信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10680" y="30686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如果孩子生活在讽刺之中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他就学会自卑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83760" y="378936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如果孩子生活在表扬之中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他就学会感激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10680" y="458136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如果孩子生活在恐惧之中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他就学会忧虑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48200" y="5300640"/>
            <a:ext cx="50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如果孩子生活在认可之中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他就学会自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348000" y="62064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结束语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3640" y="1484280"/>
            <a:ext cx="556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本次测验金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3160" y="3213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本次测验银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01880" y="22464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施娱、卢丽娜、王海斌、李璇、王馨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407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夏玲玲、周丰瑞、黄菁菁、钱芸芸、叶琼、林超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8000" y="62064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议程二、期中考成绩简单汇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843280" y="1989000"/>
            <a:ext cx="3238560" cy="18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谢谢光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32080" y="4046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班级单科优胜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1197000"/>
            <a:ext cx="7561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 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刘凌晟、王海斌、卢丽娜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林超豪、王馨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英 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施娱、吴恬恬、王海斌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李璇、钱芸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语 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卢丽娜、施娱、王馨馨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陈冰冰、叶琼、徐碧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科  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施娱、卢丽娜、王海斌、林超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24000" y="404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议程三、透过成绩找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87280" y="1197000"/>
            <a:ext cx="5321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一、上课质量决定成绩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206064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些学生学习没有动力，上课注意力不集中，不愿意做笔记，课堂效率低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93372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铭、刘宁州、徐丽丽、王剑凯、陈烨、陈豪、王剑凯、柳毅、黄鹏飞、王如意、马俪净、方炜俊、林丛。（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陈冰冰、陈鸿杰、王智、刘凌晟、陈舒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835280" y="69228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二、效率产生差距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484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学校里，有些学生自觉性比较差，没有充分利用午休时间和自习课时间学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3577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放学之后，没有及时回家，在外游荡，很晚才进入学习状态。做完作业后没有复习预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53006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周末、假期时间过于放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63640" y="907920"/>
            <a:ext cx="53215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三、作业质量值得重视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844640"/>
            <a:ext cx="813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些学生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作业马虎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作业差错多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选择题乱猜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计算题只有答案没有过程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老师讲评过的练习始终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没有及时订正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习惯，导致已做过的练习屡做屡错。到考试时遇到难题不是去思考，而是乱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912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83160" y="5158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少数学生有抄作业现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2720" y="1341360"/>
            <a:ext cx="9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凌晟、柳毅、黄鹏飞、陈铭、洪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492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以下学生数学作业质量不高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凌晟、陈鸿杰、方炜俊、王剑凯、陈烨、周培培、徐丽丽、吴恬恬、叶丹、马俪净、陈舒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63640" y="907920"/>
            <a:ext cx="53215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四、家庭配合很关键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84464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9890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学校教育离不开正确家庭教育的配合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分耕耘，一分收获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。倘若没有良好，正确合理的家庭教育配合，再好的师资和学校都不可能产生好的教育效果。 希望家长主动监督、检查作业、预习、复习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771640" y="4869000"/>
            <a:ext cx="4114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正确对待家教和补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26920" y="1989000"/>
            <a:ext cx="7201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家长代表发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3:30:3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16:53Z</dcterms:modified>
  <cp:revision>54</cp:revision>
  <dc:subject>主题班会课件(分28大类): http://shop62905894.taobao.com</dc:subject>
  <dc:title>主题班会课件(分28大类): http://shop62905894.taobao.com</dc:title>
</cp:coreProperties>
</file>